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1B0-5539-433C-A0BC-FBE01CCF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E53-5FE8-4743-96C0-4D4FDB26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55040-BCA9-4D3A-82C1-49687EDF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4B61-7E0E-4F70-8DF8-EE7784EE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57BE7-38F6-4FA2-84E9-06ABE057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2333C-A680-4CF8-859E-79A9395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4012C-0B81-44EC-8842-9CA7C099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63A28-7384-4C0C-8365-B11BA59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284B4-0768-48EB-88F8-805FBD87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CEF38-71BA-4AD5-8F16-B40CB8B7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D59CD-0453-4B56-9003-12BFD529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8F0A1-55B0-45BE-9F72-61D85202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60E-6DAB-4D81-84EA-98D1A027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255F3-59EC-4B33-B1DB-EA9F6B20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1BDF0-1806-4BAB-A1FF-B2CCFBA1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04758-E3AC-4A10-BB41-87DA8982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7F619-6E2F-494F-97FF-B9254525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BE457-AB3F-438F-800A-C81FFF1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87776-8B22-4CF4-967B-DC530451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630D1-39BC-4E97-B124-18DE1FC1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4A155-7E5D-4362-BA25-5F6CBE9A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00431-CF8A-4B08-BFC8-D1E557E6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693E6-721A-4E21-A9ED-1A4D9D21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AD1-4780-4AB6-8EF7-F931D890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64619-33C7-459B-88EE-75651158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E202A-0CEB-409D-B8E4-C9C05D49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B0FC2-9C25-451E-8605-A081B262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F60CC-BE0A-4DDC-B2A0-8E6B666A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A4121-99A6-46AC-BD8F-F825DF0D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29033-DD4B-4B11-8DF2-02623BA2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9E16E-8C3A-422E-A143-6FDA6BD1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430AB-57B7-4C1D-B303-201A2D79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A4BAD-E37B-4AF0-B74B-9703BABC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CC745-2377-440C-96E7-27EED0CD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76A2-C3AE-4E0F-81A1-971A93C5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79EF7-520E-4220-B5AC-EB40002A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438C1-4BFB-4D7F-B976-8D65DFC5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20B26-3472-40A2-AD41-CF86F004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9676C-42B6-492F-81CF-0D2B1044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2107E-4476-41D5-8902-918CF24E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F0193-B0C0-4066-8651-EC8C162C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34DE2-6027-475D-ADCC-9F25D2F8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8F9EE-092C-4EFF-94DD-0D763FC7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99050-26B0-4257-B946-332D73BC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17B0C-6519-4570-B2B2-E31BD5E5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D04E-4E9E-41F8-9084-EEC28673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84AA1-A4AF-412B-853B-47DBE134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F2484-4A10-4492-9ED2-4E61FD93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53A75-CB65-4167-B8E3-60E601CF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93921-F9AE-4192-9C25-4C119271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3FBF5-EBA1-46C8-8878-E2DAD3D3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3EBB4-40D2-49BB-8906-F6863898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6344F-7D4C-4BAA-8611-38D475DF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14B25-FF9E-4F22-BC01-03CC205F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0FB0F-1C35-435C-A60E-2DFFF5FF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595CE-FDDE-4025-957F-FD22EDEF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4A64-5907-42DD-B795-25060427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120CE-8FD4-4ED2-A873-60B31B4E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43756-E3EA-4873-ABFC-B4EAD42D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D6341-4839-41AE-87C0-351CA41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1B647-C663-4AE7-BCC7-0E9DF324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3D625-135B-4225-ABB8-5B69915D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D486E-CC62-4D13-A455-27AA1F95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9F8E9-0B83-4080-9A1E-F5E5D09C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B387B-E8E5-481D-B791-340527E6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8E567-1EFB-471D-B50C-83734FB9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B52D5-E477-47DB-B925-E3A7E508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8B1A-2E70-438E-84E2-F13C6602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E8439-7EA0-4E50-A10B-C0792E3D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11554-33CC-48CC-8F03-D036DB63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8871C-0922-47E1-AB13-D939C946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0088F-1E0E-470A-8D1C-4B5D87D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FC5B7-BD2D-495D-83CD-64C3FB40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CD507-118C-4C5E-AE5A-8DF6B307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9670B-8FAE-47F6-ABA4-D014AC20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1B759-A10B-432D-B1DE-4BDE4826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991BB-32AF-44FE-9981-4A922FBD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19BB2-965F-48D1-81D8-DD7FCD9E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10FC-BBC8-4EC9-8B20-53B516AD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AC8B3-A17A-403A-9B08-7DFFBE14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DBA0C-2EBC-40A0-9818-2A3CFBC4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4AC5D-F5FF-485B-8DEB-54B78EB2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757E2A-8373-492C-B8CC-35F3DC47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22FF7-A643-4CD6-9467-C67461DA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0002E-94A5-416E-80A5-279175F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664C8-6771-428C-B4CC-50C86B65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7FFED-D442-4664-B95C-908732FF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1E4D7-2293-4AF0-99D4-8F6F4B30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F1644-A7B3-4F3B-9A48-0C8020B1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7CA0-3763-4EDB-BD7B-124D186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3817C-11E4-4C4B-B430-84C52AF1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8009A-6C78-4296-BEEC-A3A88DEA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6226F-5ACD-46C4-81E3-A71EECEC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A85BF-043E-4BEE-9C78-CD6D765A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093BA-301C-4D12-AB17-02E94790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87325-A22E-4B7D-8897-3484722F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0BC6F-3602-4E04-B44D-8E7416D8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75376-B6C2-4735-9A2B-27DABA05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390176-1E80-4078-A91D-C829E982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155AE-5B74-4356-99EC-438DD28D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C1AD-E4FB-4571-AF91-376F04BB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6C5BA-26D1-4D1F-AFC5-2751D5D4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650A6-242A-47AC-B7E6-C265A324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DC6BA-2449-490A-B0D6-A9641A0C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50630-97A1-4518-9DE9-E7AC6D4C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E89CF-B69D-486C-A691-D98DEA60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950CC-84B5-44C0-884F-E6E29237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AEE31-C9BA-42FD-B911-EDA847DC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84085-9BE1-4386-83CA-90AD44B9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3B75A3-D491-4C1B-9034-DEECE52E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D83EC-AEDB-4836-8ED3-C7EB1024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30C-84FD-47EB-9C16-C0C5A91E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5D9A-DA6E-4511-8D65-1198487A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D5FEA-6864-4E37-8541-AA68ED9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DAB65-7B33-4B81-8261-2D6C83E0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27CB5-6348-4E4F-AFA6-94098670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20B92-876D-4F1C-B645-B33866D2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804C4-9BAD-4143-AAC5-8D49E098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8A49D4-AA7A-43F8-B136-1BA8FE4B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30250C-C411-4158-9131-8B103F5F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BC6A5-C9CA-4F35-B90A-0DF2CBCF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7C3F2-5944-46A5-B0BD-75E69D3E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38D027-6E9D-4892-BDE2-5CEF556E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36D9-5B87-489C-9D7A-8E98A9BC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5E1FC-8CF1-4F43-BBA6-D45BF721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1B4A2-54B5-4E28-8C47-F17BF20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C5D6E-62F9-4F1B-A7C0-6384860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B8676-9FDE-4550-B08D-A93B10A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B7B47-5E2E-4697-86A0-ADB05DC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20A32-38BA-459F-8D4C-7A918722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097C2-E181-4AA4-BE82-8E947F73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1EA-B1CE-4D10-A73B-532386B5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C262-3BED-4BC8-A01C-1423E555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44BA-5C60-478F-9DF6-21A14CF3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2B2E-5D1B-4D7E-AA8A-C331EBAB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45DED-1B2C-49CA-B090-5467B149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292D-A401-473C-96AA-C72C3917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82CB-30E9-4980-B042-E987B1C5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4B90-4B92-49D1-A407-46CCE658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245-A641-4E23-B34D-404EBD5A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F73B-6820-48D4-A9FB-F90BF332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B096-D6E0-4AD1-8EB6-CA7F10A4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F196-42A9-46E0-B743-3952ACC1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E669-B7F1-40FD-8022-1A653F29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C6CE-D2CD-4BC4-BED3-BF602BE6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C08A-7B19-435D-8730-2199D997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B2C6-7C94-406B-BCBF-784F1B86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EB40-C776-48BF-8972-8E433957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9E4A-B687-4237-B374-4AEA9FB2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D61A-618F-4CE8-932F-75862B35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A6D-7DE4-48F5-8B8B-68E4CB2A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5644-A293-40D5-8FF1-FBA45F44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AF3F2-9E5B-4365-B0BD-983F089C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18CFB-1A90-468B-A399-1898EFC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A726-12F9-4F6F-9DBB-51498CC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F5D5-72BA-43F4-989B-0E7E5D7B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02407-4092-424E-8F98-C218AAF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7C6B-BCF3-4795-B458-6C20353A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2F225-94B7-4A69-9963-804E1E78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F1CA0-C7A1-4A28-A876-E629A295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5096-98E7-406D-A979-DDD6C57C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2E9-1556-4B64-8FF4-B10333A8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06F7-5785-4FC3-8343-8DC3FCD3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E5504-ADA9-4A86-ADA0-C31E9213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9C292-DB0E-4552-8B1D-A6EFB06C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6A4DD-7659-48D9-BCEA-33A971D7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9B459-AE93-410C-986E-54552702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ACF01-5309-4607-AE51-9BF54660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6967E-C4FC-4AAB-9D18-F40EAEE8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B249F-4E50-4E2F-9C1E-418FA731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CB27D-E2BB-42D2-A24D-A98074E2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9447B-C923-4657-86DD-F67B9D53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0C7-770C-4E9E-87AB-6FD9B2B5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9944E-71C2-49A9-B96B-AF0F20C6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64C25-7B54-4295-A57C-9E9DF4ED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634B3-B351-4AD2-AD6C-A345E45D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D1429-7F3F-4683-BDD7-02D74A70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76CF0-B7E9-4BB4-B7AD-34109124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2200B-6FF8-435A-AB58-32138451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C2C8-B8BE-402D-A778-6D3016D6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2086B-316D-4E14-889E-955538F5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5D84-7494-4A6E-931B-6EDC874F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D984C-F956-4EE3-B511-B2E68FFC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B15-0FA6-4ADA-ABBB-530EAEB4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6DF03-07F7-4FAE-8B7F-4970CAC6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E3F9B-8C8D-4D09-A4B0-03FFD8EA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3C82E-A09C-4027-8A63-E17A0DB7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16361-0059-44B8-A63C-0F019AFA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83282-2829-44CF-ACBB-FDC0C98D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70E2E-2283-42B8-B832-FC768B83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0464-5A4B-4707-82BA-C991F486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92FE-65A3-4794-BAAB-E79EA1CB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C21AC-7E23-4614-A2F5-C19A3B08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032EE-897D-4216-BC89-2963986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806-6D26-4936-B189-E91235E2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0DE52-FC1B-47B0-A99A-17AC0BD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81583-3743-47D2-9F72-6A6EC945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94A1D-836E-427B-AAC0-7F97C82F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BCABD-464B-4700-A6FD-032FA510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19E5-F641-42A3-AD95-7815D677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66C63-D484-4183-BC71-202014EE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E9066-2257-454A-B82B-E4E4BEE3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57705-17EC-4B25-8B37-470DBC17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2C643-250E-4BCF-8203-88E5C427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CD47B-1E5A-4057-BF69-767813F3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9E2-23DC-440C-A730-D2ACA195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A6805-EC55-41FD-9E7A-9D81BF09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FDA06-9687-4234-8B8B-BC86B9C6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492E4-3885-4833-B115-AF065099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E8A3C-51B2-4141-967A-4D41750D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7CF89-6542-466E-8A83-A5D90BFC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A77E6-C210-4841-BFCB-FE919728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1678F-A7B2-4A9B-A302-D407139C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3E084-C672-4DDD-91EE-F34836FF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ABD33-D9F3-4CB0-8C0C-C18209F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56096-CBAC-4BEC-A6FC-A99906F4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6DFD-2B5A-40E7-8198-5D8FCEFF5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F3A3-91E0-4861-84A4-0D47863CE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8B60-64BF-4A4F-9F7C-FC40B4373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DB3C-CC5E-4668-8CB6-4FC165A04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3D4E-7308-4EDC-8414-017F25009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276-5C58-48AA-9720-9375EF6D0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D33A-88CC-413C-A44D-D460AFC85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965C-6271-4630-AA2C-35099DEE3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0F6D-9E7E-400F-A0E3-0AFAF633B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7F09-0C09-4EC6-B132-24D3C6F9D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3ABC-C13A-4D4D-BDAD-6E4F9C2DE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A317-FF09-4899-9F51-F8BF3B6FC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6D76-0A86-4B10-8EA6-78F82AB31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C128-1A90-406A-AA92-9CC428E5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9AB0-0575-4D97-A7B6-373FE0E38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9663-F736-4C4F-ACEC-5397C8D9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AD11-77DF-486C-AA3F-07BE3D86E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7B95-E59D-4199-A247-7048F5CF3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c1c1c"/>
                </a:solidFill>
                <a:latin typeface="pointy"/>
              </a:rPr>
              <a:t>Chapter 13 and 15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are the topic categories for informative speeches?  Describe each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es about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ive at least two example topics for each category that you listed in # 2.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be the ten guidelines for informative speaking.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your informative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your ideas and support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ppropriat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ppropriate forms of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ffectiv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0" dur="500"/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5" dur="2000"/>
                                        <p:tgtEl>
                                          <p:spTgt spid="7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7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7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three questions should you ask yourself as you begin to prepare an informative speech?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does the audience already know about this top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audience need to know to understand this top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present this information in allotted time so that the audience will understand and remember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delivery?  How does it affect your speech’s message?  Give examples to illustrate your answer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say your speech is the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delivery shapes your image as a spe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changes your message in subtl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delivery can mask weak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delivery can undermine the impact of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delivery can enhance any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plain the four principles of non-verbal communication.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nonverbal communication is deliberate, while another part is uninten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nonverbal signals have universal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speaker’s verbal and nonverbal channels send conflicting messages, we tend to trust the nonverbal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bal message you intend may be overridden by other meanings people attach to your nonverbal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impromptu speaking?  In what situations do people engage in it?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mptu speaking is speaking without advance prepa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engage in impromptu speaking whenever they are unexpectedly called upon to express themselves i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y is speaking from memory only appropriate on rare occasions?  Explain your answer.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from memory entails preparing and memorizing a written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memorization does allow the speaker to interact directly with the audience, without notes or a manuscript, the process of memorization can be time consu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memorization can make the final delivery mechan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zation is most appropriate for brief spee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2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plain the benefits and problems associated with speaking from a manuscript.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from a manuscript entails delivering a speech from a text written word for word and practiced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y increase confidence and will increase the ease of quoting the speech at a lat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riting the manuscript, it is important that it be conversational.  Otherwise, the delivery may not be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ype of speaking takes a good deal of time to prepare, as much editing and practice are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be the benefits of speaking extemporaneous.  What must you do to make this an effective delivery method?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extemporaneously is delivering a speech from notes or from a memorized ou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develop your speech’s content and organization in order to effectively speak extempor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very important to know your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nswer the following in short essay form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he following questions into a five-paragraph essay.  What makes delivery effective?  What are the elements of vocal delivery and physical delivery?  How they affect the effectiveness of a speech?  (for this study guide, just make a short out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are the characteristics of speaking to inform?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to inform has the goal of imparting knowledge, enhancing understanding, or facilitating the application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oal is not to persuade (although each of your listeners will bring their own biases to your top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oal is assist your listeners in gaining further understanding of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0:20:26Z</dcterms:created>
  <dc:creator>nuhs</dc:creator>
  <dc:description/>
  <dc:language>en-US</dc:language>
  <cp:lastModifiedBy>nuhs</cp:lastModifiedBy>
  <dcterms:modified xsi:type="dcterms:W3CDTF">2008-01-23T21:35:34Z</dcterms:modified>
  <cp:revision>8</cp:revision>
  <dc:subject/>
  <dc:title>Chapter 13 and 15</dc:title>
</cp:coreProperties>
</file>